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570D-CB09-4273-9CE7-43DD0B5AE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 streaming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D28E-32A8-4165-BAF5-80A807B77D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n’t go into the details of the proof, but I will tell you about a cute trick that we used which seems to be important to the analysis. That is, I don’t know a way of proving the result without using th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92D8-B31E-4079-BA4F-17A9DEBB1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ing points close to 1 increase space requirement. So we don’t want to get too close to 1. So how can we get an improved estimate? We can do a polynomial interpolation based on many points. Then we can use approximation theory arguments and extremal properties of Chebyshev polynomials to quantify how good of an estimate we g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FBAA-9874-4B09-8A6C-B61FAD5A4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 space for p&gt;2. To estimate Infinity-norm, need linear space, same as trivial algorith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: info theory useful in lower bounds for stream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linger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F190-9DDF-481F-87A3-B00BA1ECE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so much data, can’t afford rigorous processing. Or even storing i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09E1-76FC-4ED8-8ADD-033AACEDD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02D3-D2CF-4C56-9AF4-81F3EB50E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ve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702F-0308-4FDB-B1B9-0ACE25298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defined p=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97FB-2699-4E99-9B94-34ADEA539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C145-B9A3-4AED-9433-33D2F663D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D62-21D9-4A9A-848C-C4B18E63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AB6A-074B-493F-A9A4-FCA8E0B5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5C97-C66E-47E9-A38D-B6246DB2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3FE5-8860-4749-9546-89DD3A84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5205-526E-419D-9117-B1C51479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78C9-5AAA-4C58-9982-D7E33096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D425-6C18-4C0B-8748-19E113BA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53B-235C-41CA-8C79-CF19368A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117C-4678-4952-892E-CB8F77BF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E06-BCA3-4ED8-93B2-78887DE4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81A1-49B3-4CE9-B371-B278479E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6263-CFCC-4DF1-8EAB-FD25A6DD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407A-00BF-47DE-B006-0C38658A4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0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eaming Algorith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Estimating Entro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43040" y="304812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ck Harv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lani Nel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zysztof On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mit-blackred-header1"/>
          <p:cNvPicPr/>
          <p:nvPr/>
        </p:nvPicPr>
        <p:blipFill>
          <a:blip r:embed="rId1"/>
          <a:stretch/>
        </p:blipFill>
        <p:spPr>
          <a:xfrm>
            <a:off x="4387680" y="5029200"/>
            <a:ext cx="4572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152280" y="1600200"/>
            <a:ext cx="8763120" cy="38098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ing the tradeof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286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quickly does H</a:t>
            </a:r>
            <a:r>
              <a:rPr b="0" lang="en-US" sz="3600" spc="-1" strike="noStrike" baseline="-1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x) converge to H(x)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heore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Let x be distr., with mi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≥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/m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t                                    .   The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t                                    .   Th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lugging i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O(</a:t>
            </a:r>
            <a:r>
              <a:rPr b="0" lang="en-CA" sz="30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en-CA" sz="3000" spc="-1" strike="noStrike" baseline="30000">
                <a:solidFill>
                  <a:srgbClr val="0000ff"/>
                </a:solidFill>
                <a:latin typeface="Calibri"/>
              </a:rPr>
              <a:t>-4</a:t>
            </a:r>
            <a:r>
              <a:rPr b="0" lang="en-CA" sz="3000" spc="-1" strike="noStrike">
                <a:solidFill>
                  <a:srgbClr val="0000ff"/>
                </a:solidFill>
                <a:latin typeface="Calibri"/>
              </a:rPr>
              <a:t> log</a:t>
            </a:r>
            <a:r>
              <a:rPr b="0" lang="en-CA" sz="3000" spc="-1" strike="noStrike" baseline="30000">
                <a:solidFill>
                  <a:srgbClr val="0000ff"/>
                </a:solidFill>
                <a:latin typeface="Calibri"/>
              </a:rPr>
              <a:t>4</a:t>
            </a:r>
            <a:r>
              <a:rPr b="0" lang="en-CA" sz="3000" spc="-1" strike="noStrike">
                <a:solidFill>
                  <a:srgbClr val="0000ff"/>
                </a:solidFill>
                <a:latin typeface="Calibri"/>
              </a:rPr>
              <a:t> m)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bits of space suffice for </a:t>
            </a:r>
            <a:r>
              <a:rPr b="0" lang="en-CA" sz="3000" spc="-1" strike="noStrike">
                <a:solidFill>
                  <a:srgbClr val="0000ff"/>
                </a:solidFill>
                <a:latin typeface="Calibri"/>
              </a:rPr>
              <a:t>a</a:t>
            </a: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dditive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approxi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371600" y="2666880"/>
                <a:ext cx="2819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p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5715000" y="2666880"/>
                <a:ext cx="211608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219320" y="4038480"/>
                <a:ext cx="304308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p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645160" y="4429080"/>
                <a:ext cx="26384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TextBox 8"/>
          <p:cNvSpPr/>
          <p:nvPr/>
        </p:nvSpPr>
        <p:spPr>
          <a:xfrm>
            <a:off x="2373840" y="2209680"/>
            <a:ext cx="39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ultiplicative Approx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2794680" y="365760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dditive Approx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of: A Cute Tri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2860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have f 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ℝ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ℝ and 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ℝ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ℝ  such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210360" y="1905120"/>
                <a:ext cx="2184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"/>
              <p:cNvSpPr txBox="1"/>
              <p:nvPr/>
            </p:nvSpPr>
            <p:spPr>
              <a:xfrm>
                <a:off x="237960" y="2057400"/>
                <a:ext cx="2352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352680" y="2057400"/>
                <a:ext cx="221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Content Placeholder 2"/>
          <p:cNvSpPr/>
          <p:nvPr/>
        </p:nvSpPr>
        <p:spPr>
          <a:xfrm>
            <a:off x="228600" y="28954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’Hopital’s rule implie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048120" y="3581280"/>
                <a:ext cx="23619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Content Placeholder 2"/>
          <p:cNvSpPr/>
          <p:nvPr/>
        </p:nvSpPr>
        <p:spPr>
          <a:xfrm>
            <a:off x="228600" y="480060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t actually says more!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says           converges to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at least as fa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            d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410080" y="4724280"/>
                <a:ext cx="7621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8450280" y="4876920"/>
                <a:ext cx="3128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657600" y="5486400"/>
                <a:ext cx="8380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rov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83772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arlier: </a:t>
            </a:r>
            <a:r>
              <a:rPr b="0" lang="en-CA" sz="3200" spc="-1" strike="noStrike">
                <a:solidFill>
                  <a:srgbClr val="0000ff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ditive </a:t>
            </a:r>
            <a:r>
              <a:rPr b="0" lang="en-CA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approx using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(</a:t>
            </a:r>
            <a:r>
              <a:rPr b="0" lang="en-CA" sz="32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en-CA" sz="3200" spc="-1" strike="noStrike" baseline="30000">
                <a:solidFill>
                  <a:srgbClr val="0000ff"/>
                </a:solidFill>
                <a:latin typeface="Calibri"/>
              </a:rPr>
              <a:t>-4</a:t>
            </a:r>
            <a:r>
              <a:rPr b="0" lang="en-CA" sz="3200" spc="-1" strike="noStrike">
                <a:solidFill>
                  <a:srgbClr val="0000ff"/>
                </a:solidFill>
                <a:latin typeface="Calibri"/>
              </a:rPr>
              <a:t> log</a:t>
            </a:r>
            <a:r>
              <a:rPr b="0" lang="en-CA" sz="3200" spc="-1" strike="noStrike" baseline="30000">
                <a:solidFill>
                  <a:srgbClr val="0000ff"/>
                </a:solidFill>
                <a:latin typeface="Calibri"/>
              </a:rPr>
              <a:t>4</a:t>
            </a:r>
            <a:r>
              <a:rPr b="0" lang="en-CA" sz="3200" spc="-1" strike="noStrike">
                <a:solidFill>
                  <a:srgbClr val="0000ff"/>
                </a:solidFill>
                <a:latin typeface="Calibri"/>
              </a:rPr>
              <a:t> m)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i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get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ultiplicat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proxim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roved streaming algorithms for </a:t>
            </a: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‖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‖</a:t>
            </a:r>
            <a:r>
              <a:rPr b="0" lang="en-CA" sz="2700" spc="-1" strike="noStrike" baseline="-15000">
                <a:solidFill>
                  <a:srgbClr val="000000"/>
                </a:solidFill>
                <a:latin typeface="Calibri"/>
              </a:rPr>
              <a:t>p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‖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‖</a:t>
            </a:r>
            <a:r>
              <a:rPr b="0" lang="en-CA" sz="2700" spc="-1" strike="noStrike" baseline="-1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 large (</a:t>
            </a:r>
            <a:r>
              <a:rPr b="0" lang="en-CA" sz="27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 H(x) very small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reduce spac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r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polate with multiple points: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p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x),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p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x), 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Group 20"/>
          <p:cNvGrpSpPr/>
          <p:nvPr/>
        </p:nvGrpSpPr>
        <p:grpSpPr>
          <a:xfrm>
            <a:off x="1944000" y="3939840"/>
            <a:ext cx="4285800" cy="2868120"/>
            <a:chOff x="1944000" y="3939840"/>
            <a:chExt cx="4285800" cy="2868120"/>
          </a:xfrm>
        </p:grpSpPr>
        <p:sp>
          <p:nvSpPr>
            <p:cNvPr id="201" name="Freeform 19"/>
            <p:cNvSpPr/>
            <p:nvPr/>
          </p:nvSpPr>
          <p:spPr>
            <a:xfrm>
              <a:off x="4057560" y="4038480"/>
              <a:ext cx="1785960" cy="1495440"/>
            </a:xfrm>
            <a:prstGeom prst="pie">
              <a:avLst/>
            </a:prstGeom>
            <a:noFill/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Straight Arrow Connector 4"/>
            <p:cNvCxnSpPr/>
            <p:nvPr/>
          </p:nvCxnSpPr>
          <p:spPr>
            <a:xfrm flipV="1">
              <a:off x="3173400" y="3939840"/>
              <a:ext cx="2160" cy="21103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3" name="TextBox 5"/>
            <p:cNvSpPr/>
            <p:nvPr/>
          </p:nvSpPr>
          <p:spPr>
            <a:xfrm>
              <a:off x="1944000" y="4692600"/>
              <a:ext cx="1080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p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(x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4" name="Straight Arrow Connector 6"/>
            <p:cNvCxnSpPr/>
            <p:nvPr/>
          </p:nvCxnSpPr>
          <p:spPr>
            <a:xfrm>
              <a:off x="3173040" y="6048360"/>
              <a:ext cx="28566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5" name="TextBox 7"/>
            <p:cNvSpPr/>
            <p:nvPr/>
          </p:nvSpPr>
          <p:spPr>
            <a:xfrm>
              <a:off x="4398840" y="6226560"/>
              <a:ext cx="39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8"/>
            <p:cNvSpPr/>
            <p:nvPr/>
          </p:nvSpPr>
          <p:spPr>
            <a:xfrm>
              <a:off x="3912840" y="6048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9"/>
            <p:cNvSpPr/>
            <p:nvPr/>
          </p:nvSpPr>
          <p:spPr>
            <a:xfrm>
              <a:off x="2946960" y="6048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10"/>
            <p:cNvSpPr/>
            <p:nvPr/>
          </p:nvSpPr>
          <p:spPr>
            <a:xfrm>
              <a:off x="4850280" y="6048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11"/>
            <p:cNvSpPr/>
            <p:nvPr/>
          </p:nvSpPr>
          <p:spPr>
            <a:xfrm>
              <a:off x="5803560" y="604872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2"/>
            <p:cNvSpPr/>
            <p:nvPr/>
          </p:nvSpPr>
          <p:spPr>
            <a:xfrm>
              <a:off x="3197160" y="4346280"/>
              <a:ext cx="2832120" cy="1251000"/>
            </a:xfrm>
            <a:prstGeom prst="pi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3"/>
            <p:cNvSpPr/>
            <p:nvPr/>
          </p:nvSpPr>
          <p:spPr>
            <a:xfrm>
              <a:off x="4046760" y="4627440"/>
              <a:ext cx="158400" cy="150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4"/>
            <p:cNvSpPr/>
            <p:nvPr/>
          </p:nvSpPr>
          <p:spPr>
            <a:xfrm>
              <a:off x="4992840" y="5387760"/>
              <a:ext cx="168120" cy="160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6"/>
            <p:cNvSpPr/>
            <p:nvPr/>
          </p:nvSpPr>
          <p:spPr>
            <a:xfrm>
              <a:off x="4637160" y="5313240"/>
              <a:ext cx="168120" cy="160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7"/>
            <p:cNvSpPr/>
            <p:nvPr/>
          </p:nvSpPr>
          <p:spPr>
            <a:xfrm>
              <a:off x="4307040" y="5024520"/>
              <a:ext cx="169560" cy="160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R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yi-Shannon approximation trick useful for other probl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e., problems that are easier with R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yi entro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other functions can be approximated in the streaming contex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um analog of streaming algorith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pape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arxiv.org/abs/0804.41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3055680" y="160020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ff"/>
                </a:solidFill>
                <a:latin typeface="Calibri"/>
              </a:rPr>
              <a:t>Thank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1554120"/>
            <a:ext cx="9144000" cy="304920"/>
          </a:xfrm>
          <a:prstGeom prst="rect">
            <a:avLst/>
          </a:prstGeom>
          <a:solidFill>
            <a:srgbClr val="71d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eaming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 rot="19231800">
            <a:off x="7944480" y="1380600"/>
            <a:ext cx="178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ment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1"/>
          <p:cNvGrpSpPr/>
          <p:nvPr/>
        </p:nvGrpSpPr>
        <p:grpSpPr>
          <a:xfrm>
            <a:off x="2666880" y="2362320"/>
            <a:ext cx="3429000" cy="1422360"/>
            <a:chOff x="2666880" y="2362320"/>
            <a:chExt cx="3429000" cy="1422360"/>
          </a:xfrm>
        </p:grpSpPr>
        <p:sp>
          <p:nvSpPr>
            <p:cNvPr id="55" name="Rectangle 7"/>
            <p:cNvSpPr/>
            <p:nvPr/>
          </p:nvSpPr>
          <p:spPr>
            <a:xfrm>
              <a:off x="2666880" y="2362320"/>
              <a:ext cx="3429000" cy="14176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3"/>
            <p:cNvSpPr/>
            <p:nvPr/>
          </p:nvSpPr>
          <p:spPr>
            <a:xfrm>
              <a:off x="2763000" y="2503800"/>
              <a:ext cx="326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x = (0, 0, 0, 0, …, 0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Box 8"/>
            <p:cNvSpPr/>
            <p:nvPr/>
          </p:nvSpPr>
          <p:spPr>
            <a:xfrm>
              <a:off x="3360960" y="3142080"/>
              <a:ext cx="203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Algorith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9"/>
          <p:cNvSpPr/>
          <p:nvPr/>
        </p:nvSpPr>
        <p:spPr>
          <a:xfrm>
            <a:off x="4343400" y="1859040"/>
            <a:ext cx="15228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2"/>
          <p:cNvGrpSpPr/>
          <p:nvPr/>
        </p:nvGrpSpPr>
        <p:grpSpPr>
          <a:xfrm>
            <a:off x="2666880" y="2362320"/>
            <a:ext cx="3429000" cy="1422360"/>
            <a:chOff x="2666880" y="2362320"/>
            <a:chExt cx="3429000" cy="1422360"/>
          </a:xfrm>
        </p:grpSpPr>
        <p:sp>
          <p:nvSpPr>
            <p:cNvPr id="60" name="Rectangle 13"/>
            <p:cNvSpPr/>
            <p:nvPr/>
          </p:nvSpPr>
          <p:spPr>
            <a:xfrm>
              <a:off x="2666880" y="2362320"/>
              <a:ext cx="3429000" cy="14176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14"/>
            <p:cNvSpPr/>
            <p:nvPr/>
          </p:nvSpPr>
          <p:spPr>
            <a:xfrm>
              <a:off x="2763000" y="2503800"/>
              <a:ext cx="326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x = (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, 0, 0, 0, …, 0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5"/>
            <p:cNvSpPr/>
            <p:nvPr/>
          </p:nvSpPr>
          <p:spPr>
            <a:xfrm>
              <a:off x="3360960" y="3142080"/>
              <a:ext cx="203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Algorith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Box 16"/>
          <p:cNvSpPr/>
          <p:nvPr/>
        </p:nvSpPr>
        <p:spPr>
          <a:xfrm>
            <a:off x="6919920" y="2438280"/>
            <a:ext cx="13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∈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ℤ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7"/>
          <p:cNvSpPr/>
          <p:nvPr/>
        </p:nvSpPr>
        <p:spPr>
          <a:xfrm>
            <a:off x="3471120" y="868320"/>
            <a:ext cx="193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8"/>
          <p:cNvGrpSpPr/>
          <p:nvPr/>
        </p:nvGrpSpPr>
        <p:grpSpPr>
          <a:xfrm>
            <a:off x="2666880" y="2362320"/>
            <a:ext cx="3429000" cy="1422360"/>
            <a:chOff x="2666880" y="2362320"/>
            <a:chExt cx="3429000" cy="1422360"/>
          </a:xfrm>
        </p:grpSpPr>
        <p:sp>
          <p:nvSpPr>
            <p:cNvPr id="66" name="Rectangle 19"/>
            <p:cNvSpPr/>
            <p:nvPr/>
          </p:nvSpPr>
          <p:spPr>
            <a:xfrm>
              <a:off x="2666880" y="2362320"/>
              <a:ext cx="3429000" cy="14176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20"/>
            <p:cNvSpPr/>
            <p:nvPr/>
          </p:nvSpPr>
          <p:spPr>
            <a:xfrm>
              <a:off x="2763000" y="2503800"/>
              <a:ext cx="326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x = (1, 0, 0, 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, …, 0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21"/>
            <p:cNvSpPr/>
            <p:nvPr/>
          </p:nvSpPr>
          <p:spPr>
            <a:xfrm>
              <a:off x="3360960" y="3142080"/>
              <a:ext cx="203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Algorith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22"/>
          <p:cNvSpPr/>
          <p:nvPr/>
        </p:nvSpPr>
        <p:spPr>
          <a:xfrm rot="19231800">
            <a:off x="7944120" y="1370880"/>
            <a:ext cx="178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ment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3"/>
          <p:cNvSpPr/>
          <p:nvPr/>
        </p:nvSpPr>
        <p:spPr>
          <a:xfrm>
            <a:off x="304920" y="3886200"/>
            <a:ext cx="85341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Goal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: Compute statistics, eg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‖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‖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‖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‖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7"/>
          <p:cNvSpPr/>
          <p:nvPr/>
        </p:nvSpPr>
        <p:spPr>
          <a:xfrm>
            <a:off x="304920" y="4495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Trivial solution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: Stor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(or store all updates)</a:t>
            </a:r>
            <a:br>
              <a:rPr sz="3600"/>
            </a:b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    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(n)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8"/>
          <p:cNvSpPr/>
          <p:nvPr/>
        </p:nvSpPr>
        <p:spPr>
          <a:xfrm>
            <a:off x="304920" y="567864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Goal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: Do this with O(polylog(n)) sp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24"/>
          <p:cNvGrpSpPr/>
          <p:nvPr/>
        </p:nvGrpSpPr>
        <p:grpSpPr>
          <a:xfrm>
            <a:off x="2666880" y="2362320"/>
            <a:ext cx="3477960" cy="1422360"/>
            <a:chOff x="2666880" y="2362320"/>
            <a:chExt cx="3477960" cy="1422360"/>
          </a:xfrm>
        </p:grpSpPr>
        <p:sp>
          <p:nvSpPr>
            <p:cNvPr id="74" name="Rectangle 25"/>
            <p:cNvSpPr/>
            <p:nvPr/>
          </p:nvSpPr>
          <p:spPr>
            <a:xfrm>
              <a:off x="2666880" y="2362320"/>
              <a:ext cx="3429000" cy="14176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26"/>
            <p:cNvSpPr/>
            <p:nvPr/>
          </p:nvSpPr>
          <p:spPr>
            <a:xfrm>
              <a:off x="2763720" y="2503800"/>
              <a:ext cx="338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x = (9, 2, 0, 5, …,12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29"/>
            <p:cNvSpPr/>
            <p:nvPr/>
          </p:nvSpPr>
          <p:spPr>
            <a:xfrm>
              <a:off x="3360960" y="3142080"/>
              <a:ext cx="203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Algorith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-0.47657 2.96296E-006 E">
                                      <p:cBhvr>
                                        <p:cTn id="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657 2.96296E-006 L -0.96823 2.96296E-006 E">
                                      <p:cBhvr>
                                        <p:cTn id="17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-0.47657 2.96296E-006 E">
                                      <p:cBhvr>
                                        <p:cTn id="2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657 2.96296E-006 L -0.96823 2.96296E-006 E">
                                      <p:cBhvr>
                                        <p:cTn id="3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eam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52280" y="11430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mazing Fact: </a:t>
            </a:r>
            <a:r>
              <a:rPr b="0" lang="en-US" sz="2200" spc="-1" strike="noStrike">
                <a:solidFill>
                  <a:srgbClr val="7f7f7f"/>
                </a:solidFill>
                <a:latin typeface="Calibri"/>
              </a:rPr>
              <a:t>[Alon-Matias-Szegedy’99], [Indyk-Woodruff’05], [Indyk ’06], [Li ‘08],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n compute (1+</a:t>
            </a:r>
            <a:r>
              <a:rPr b="0" lang="en-CA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) ‖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‖</a:t>
            </a:r>
            <a:r>
              <a:rPr b="0" lang="en-CA" sz="36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 using</a:t>
            </a:r>
            <a:br>
              <a:rPr sz="3600"/>
            </a:br>
            <a:br>
              <a:rPr sz="1000"/>
            </a:b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600" spc="-1" strike="noStrike">
                <a:solidFill>
                  <a:srgbClr val="0000ff"/>
                </a:solidFill>
                <a:latin typeface="Calibri"/>
              </a:rPr>
              <a:t>O(</a:t>
            </a:r>
            <a:r>
              <a:rPr b="0" lang="en-CA" sz="36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en-CA" sz="3600" spc="-1" strike="noStrike" baseline="30000">
                <a:solidFill>
                  <a:srgbClr val="0000ff"/>
                </a:solidFill>
                <a:latin typeface="Calibri"/>
              </a:rPr>
              <a:t>-2</a:t>
            </a:r>
            <a:r>
              <a:rPr b="0" lang="en-CA" sz="3600" spc="-1" strike="noStrike">
                <a:solidFill>
                  <a:srgbClr val="0000ff"/>
                </a:solidFill>
                <a:latin typeface="Calibri"/>
              </a:rPr>
              <a:t> log n)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its of spac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if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0" lang="en-CA" sz="3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CA" sz="36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n-CA" sz="3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CA" sz="36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3600"/>
            </a:b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O(</a:t>
            </a:r>
            <a:r>
              <a:rPr b="0" lang="en-CA" sz="36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en-CA" sz="3600" spc="-1" strike="noStrike" baseline="30000">
                <a:solidFill>
                  <a:srgbClr val="0000ff"/>
                </a:solidFill>
                <a:latin typeface="Calibri"/>
              </a:rPr>
              <a:t>-2 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n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alibri"/>
              </a:rPr>
              <a:t>1-2/p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)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its of spac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if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2&lt;</a:t>
            </a:r>
            <a:r>
              <a:rPr b="0" lang="en-CA" sz="36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n-CA" sz="3600" spc="-1" strike="noStrike">
                <a:solidFill>
                  <a:srgbClr val="ff0000"/>
                </a:solidFill>
                <a:latin typeface="Symbol"/>
                <a:ea typeface="Symbol"/>
              </a:rPr>
              <a:t>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Calibri"/>
              </a:rPr>
              <a:t>Another amazing fact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: This is optimal</a:t>
            </a:r>
            <a:br>
              <a:rPr sz="3600"/>
            </a:br>
            <a:r>
              <a:rPr b="0" lang="en-US" sz="2200" spc="-1" strike="noStrike">
                <a:solidFill>
                  <a:srgbClr val="7f7f7f"/>
                </a:solidFill>
                <a:latin typeface="Calibri"/>
              </a:rPr>
              <a:t>[Bar-Yossef-Jayram-Kumar-Sivakumar’03], [Saks-Sun’03]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legant proof using communication complexity and information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ares? </a:t>
            </a:r>
            <a:r>
              <a:rPr b="0" lang="en-US" sz="2700" spc="-1" strike="noStrike">
                <a:solidFill>
                  <a:srgbClr val="7f7f7f"/>
                </a:solidFill>
                <a:latin typeface="Calibri"/>
              </a:rPr>
              <a:t>(AT&amp;T doe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neral go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ealing with massive data s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one traffic, IP traffic, large databases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Network monitoring &amp; anomaly de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am consists of IP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# packets sent to port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 typical conditions, x is very concentr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 “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ort scan att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”, x less concentr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imating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H(x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orks well to detect attacks</a:t>
            </a:r>
            <a:br>
              <a:rPr sz="2800"/>
            </a:b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[Lakhina et al. ’05], [Xu et al. ‘05], [Zhao et al. ‘07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2041560"/>
            <a:ext cx="9144000" cy="304920"/>
          </a:xfrm>
          <a:prstGeom prst="rect">
            <a:avLst/>
          </a:prstGeom>
          <a:solidFill>
            <a:srgbClr val="71d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IP pack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2362320" y="2849400"/>
            <a:ext cx="4038480" cy="1798920"/>
          </a:xfrm>
          <a:prstGeom prst="rect">
            <a:avLst/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4343400" y="2346480"/>
            <a:ext cx="152280" cy="50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2689920" y="1305000"/>
            <a:ext cx="35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ckets per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ocument"/>
          <p:cNvSpPr/>
          <p:nvPr/>
        </p:nvSpPr>
        <p:spPr>
          <a:xfrm>
            <a:off x="7696080" y="1295280"/>
            <a:ext cx="1219320" cy="1371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t: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rt: 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25"/>
          <p:cNvSpPr/>
          <p:nvPr/>
        </p:nvSpPr>
        <p:spPr>
          <a:xfrm>
            <a:off x="2514600" y="297180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6"/>
          <p:cNvSpPr/>
          <p:nvPr/>
        </p:nvSpPr>
        <p:spPr>
          <a:xfrm>
            <a:off x="2596320" y="3429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29"/>
          <p:cNvSpPr/>
          <p:nvPr/>
        </p:nvSpPr>
        <p:spPr>
          <a:xfrm>
            <a:off x="3352680" y="297180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0"/>
          <p:cNvSpPr/>
          <p:nvPr/>
        </p:nvSpPr>
        <p:spPr>
          <a:xfrm>
            <a:off x="3281040" y="3429000"/>
            <a:ext cx="5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1"/>
          <p:cNvSpPr/>
          <p:nvPr/>
        </p:nvSpPr>
        <p:spPr>
          <a:xfrm>
            <a:off x="2973600" y="297180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32"/>
          <p:cNvSpPr/>
          <p:nvPr/>
        </p:nvSpPr>
        <p:spPr>
          <a:xfrm>
            <a:off x="4191120" y="297180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3"/>
          <p:cNvSpPr/>
          <p:nvPr/>
        </p:nvSpPr>
        <p:spPr>
          <a:xfrm>
            <a:off x="4115160" y="3429000"/>
            <a:ext cx="6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4"/>
          <p:cNvSpPr/>
          <p:nvPr/>
        </p:nvSpPr>
        <p:spPr>
          <a:xfrm>
            <a:off x="3811680" y="297180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35"/>
          <p:cNvSpPr/>
          <p:nvPr/>
        </p:nvSpPr>
        <p:spPr>
          <a:xfrm>
            <a:off x="5791320" y="297180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6"/>
          <p:cNvSpPr/>
          <p:nvPr/>
        </p:nvSpPr>
        <p:spPr>
          <a:xfrm>
            <a:off x="5643720" y="342900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5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7"/>
          <p:cNvSpPr/>
          <p:nvPr/>
        </p:nvSpPr>
        <p:spPr>
          <a:xfrm>
            <a:off x="5107320" y="297180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8"/>
          <p:cNvSpPr/>
          <p:nvPr/>
        </p:nvSpPr>
        <p:spPr>
          <a:xfrm>
            <a:off x="3661920" y="404820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ight Brace 39"/>
          <p:cNvSpPr/>
          <p:nvPr/>
        </p:nvSpPr>
        <p:spPr>
          <a:xfrm>
            <a:off x="6477120" y="2895480"/>
            <a:ext cx="228600" cy="838440"/>
          </a:xfrm>
          <a:custGeom>
            <a:avLst/>
            <a:gdLst>
              <a:gd name="textAreaLeft" fmla="*/ 0 w 228600"/>
              <a:gd name="textAreaRight" fmla="*/ 82440 w 228600"/>
              <a:gd name="textAreaTop" fmla="*/ 21960 h 838440"/>
              <a:gd name="textAreaBottom" fmla="*/ 81648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5"/>
                  <a:pt x="10800" y="1810"/>
                </a:cubicBezTo>
                <a:lnTo>
                  <a:pt x="10800" y="8990"/>
                </a:lnTo>
                <a:cubicBezTo>
                  <a:pt x="10800" y="9895"/>
                  <a:pt x="16200" y="10800"/>
                  <a:pt x="21600" y="10800"/>
                </a:cubicBezTo>
                <a:cubicBezTo>
                  <a:pt x="16200" y="10800"/>
                  <a:pt x="10800" y="11705"/>
                  <a:pt x="10800" y="12610"/>
                </a:cubicBezTo>
                <a:lnTo>
                  <a:pt x="10800" y="19790"/>
                </a:lnTo>
                <a:cubicBezTo>
                  <a:pt x="10800" y="2069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0"/>
          <p:cNvSpPr/>
          <p:nvPr/>
        </p:nvSpPr>
        <p:spPr>
          <a:xfrm>
            <a:off x="6865200" y="2895480"/>
            <a:ext cx="20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 packe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ach por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7772400" y="1295280"/>
            <a:ext cx="1219320" cy="1371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t: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rt: 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42"/>
          <p:cNvSpPr/>
          <p:nvPr/>
        </p:nvSpPr>
        <p:spPr>
          <a:xfrm>
            <a:off x="4191120" y="297180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43"/>
          <p:cNvSpPr/>
          <p:nvPr/>
        </p:nvSpPr>
        <p:spPr>
          <a:xfrm>
            <a:off x="3352680" y="297180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44"/>
          <p:cNvSpPr/>
          <p:nvPr/>
        </p:nvSpPr>
        <p:spPr>
          <a:xfrm>
            <a:off x="3276720" y="297180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45"/>
          <p:cNvSpPr/>
          <p:nvPr/>
        </p:nvSpPr>
        <p:spPr>
          <a:xfrm>
            <a:off x="4114800" y="297180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6"/>
          <p:cNvSpPr/>
          <p:nvPr/>
        </p:nvSpPr>
        <p:spPr>
          <a:xfrm>
            <a:off x="375480" y="3657600"/>
            <a:ext cx="147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Typ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Traff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7"/>
          <p:cNvSpPr/>
          <p:nvPr/>
        </p:nvSpPr>
        <p:spPr>
          <a:xfrm>
            <a:off x="3276720" y="297180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8"/>
          <p:cNvSpPr/>
          <p:nvPr/>
        </p:nvSpPr>
        <p:spPr>
          <a:xfrm>
            <a:off x="4114800" y="297180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8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9"/>
          <p:cNvSpPr/>
          <p:nvPr/>
        </p:nvSpPr>
        <p:spPr>
          <a:xfrm>
            <a:off x="6937560" y="3600360"/>
            <a:ext cx="190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Port scan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tt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50"/>
          <p:cNvSpPr/>
          <p:nvPr/>
        </p:nvSpPr>
        <p:spPr>
          <a:xfrm>
            <a:off x="2438280" y="2971800"/>
            <a:ext cx="60984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51"/>
          <p:cNvSpPr/>
          <p:nvPr/>
        </p:nvSpPr>
        <p:spPr>
          <a:xfrm>
            <a:off x="4952880" y="2971800"/>
            <a:ext cx="60984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52"/>
          <p:cNvSpPr/>
          <p:nvPr/>
        </p:nvSpPr>
        <p:spPr>
          <a:xfrm>
            <a:off x="5715000" y="297180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3"/>
          <p:cNvSpPr/>
          <p:nvPr/>
        </p:nvSpPr>
        <p:spPr>
          <a:xfrm>
            <a:off x="6863760" y="3048120"/>
            <a:ext cx="20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56k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9"/>
          <p:cNvSpPr/>
          <p:nvPr/>
        </p:nvSpPr>
        <p:spPr>
          <a:xfrm>
            <a:off x="2603160" y="4989600"/>
            <a:ext cx="359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estimatin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(x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an detect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2"/>
          <p:cNvGrpSpPr/>
          <p:nvPr/>
        </p:nvGrpSpPr>
        <p:grpSpPr>
          <a:xfrm>
            <a:off x="609480" y="4877640"/>
            <a:ext cx="1296360" cy="1825560"/>
            <a:chOff x="609480" y="4877640"/>
            <a:chExt cx="1296360" cy="1825560"/>
          </a:xfrm>
        </p:grpSpPr>
        <p:cxnSp>
          <p:nvCxnSpPr>
            <p:cNvPr id="116" name="Straight Arrow Connector 56"/>
            <p:cNvCxnSpPr/>
            <p:nvPr/>
          </p:nvCxnSpPr>
          <p:spPr>
            <a:xfrm flipV="1">
              <a:off x="609480" y="4877640"/>
              <a:ext cx="2160" cy="1296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7" name="Straight Arrow Connector 57"/>
            <p:cNvCxnSpPr/>
            <p:nvPr/>
          </p:nvCxnSpPr>
          <p:spPr>
            <a:xfrm>
              <a:off x="609840" y="6172200"/>
              <a:ext cx="12963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18" name="Rectangle 59"/>
            <p:cNvSpPr/>
            <p:nvPr/>
          </p:nvSpPr>
          <p:spPr>
            <a:xfrm>
              <a:off x="839520" y="5867640"/>
              <a:ext cx="152280" cy="30456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62"/>
            <p:cNvSpPr/>
            <p:nvPr/>
          </p:nvSpPr>
          <p:spPr>
            <a:xfrm>
              <a:off x="1220760" y="5105160"/>
              <a:ext cx="152280" cy="106704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70"/>
            <p:cNvSpPr/>
            <p:nvPr/>
          </p:nvSpPr>
          <p:spPr>
            <a:xfrm>
              <a:off x="1069560" y="6182640"/>
              <a:ext cx="33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73"/>
          <p:cNvGrpSpPr/>
          <p:nvPr/>
        </p:nvGrpSpPr>
        <p:grpSpPr>
          <a:xfrm>
            <a:off x="7315200" y="4877640"/>
            <a:ext cx="1296360" cy="1825560"/>
            <a:chOff x="7315200" y="4877640"/>
            <a:chExt cx="1296360" cy="1825560"/>
          </a:xfrm>
        </p:grpSpPr>
        <p:sp>
          <p:nvSpPr>
            <p:cNvPr id="122" name="Rectangle 65"/>
            <p:cNvSpPr/>
            <p:nvPr/>
          </p:nvSpPr>
          <p:spPr>
            <a:xfrm>
              <a:off x="7545240" y="5867640"/>
              <a:ext cx="152280" cy="30456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66"/>
            <p:cNvSpPr/>
            <p:nvPr/>
          </p:nvSpPr>
          <p:spPr>
            <a:xfrm>
              <a:off x="7924680" y="5181480"/>
              <a:ext cx="153720" cy="99072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67"/>
            <p:cNvSpPr/>
            <p:nvPr/>
          </p:nvSpPr>
          <p:spPr>
            <a:xfrm>
              <a:off x="7315200" y="6019920"/>
              <a:ext cx="1219320" cy="1522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5" name="Straight Arrow Connector 64"/>
            <p:cNvCxnSpPr/>
            <p:nvPr/>
          </p:nvCxnSpPr>
          <p:spPr>
            <a:xfrm>
              <a:off x="7315560" y="6172200"/>
              <a:ext cx="12963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6" name="Straight Arrow Connector 63"/>
            <p:cNvCxnSpPr/>
            <p:nvPr/>
          </p:nvCxnSpPr>
          <p:spPr>
            <a:xfrm flipV="1">
              <a:off x="7315200" y="4877640"/>
              <a:ext cx="2160" cy="1296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7" name="TextBox 71"/>
            <p:cNvSpPr/>
            <p:nvPr/>
          </p:nvSpPr>
          <p:spPr>
            <a:xfrm>
              <a:off x="7775280" y="6182640"/>
              <a:ext cx="33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74"/>
          <p:cNvSpPr/>
          <p:nvPr/>
        </p:nvSpPr>
        <p:spPr>
          <a:xfrm>
            <a:off x="6324480" y="4343400"/>
            <a:ext cx="2667240" cy="114300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we 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ace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yt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75"/>
          <p:cNvSpPr/>
          <p:nvPr/>
        </p:nvSpPr>
        <p:spPr>
          <a:xfrm>
            <a:off x="7464600" y="3424320"/>
            <a:ext cx="369720" cy="92376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88333 1.11111E-006 E">
                                      <p:cBhvr>
                                        <p:cTn id="100" dur="1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88333 1.11111E-006 E">
                                      <p:cBhvr>
                                        <p:cTn id="115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eaming Algorithms for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Entro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52352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uch space to estimate H(x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Calibri"/>
              </a:rPr>
              <a:t>[Guha et al. ‘05], [Chakrabarti et al. ‘06],</a:t>
            </a:r>
            <a:br>
              <a:rPr sz="2600"/>
            </a:br>
            <a:r>
              <a:rPr b="0" lang="en-US" sz="2600" spc="-1" strike="noStrike">
                <a:solidFill>
                  <a:srgbClr val="7f7f7f"/>
                </a:solidFill>
                <a:latin typeface="Calibri"/>
              </a:rPr>
              <a:t>[Bhuvanagiri et al. ‘06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Calibri"/>
              </a:rPr>
              <a:t>[Chakrabarti et al. ‘07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800"/>
            </a:b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O(</a:t>
            </a:r>
            <a:r>
              <a:rPr b="0" lang="en-CA" sz="30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en-CA" sz="3000" spc="-1" strike="noStrike" baseline="30000">
                <a:solidFill>
                  <a:srgbClr val="0000ff"/>
                </a:solidFill>
                <a:latin typeface="Calibri"/>
              </a:rPr>
              <a:t>-2</a:t>
            </a:r>
            <a:r>
              <a:rPr b="0" lang="en-CA" sz="3000" spc="-1" strike="noStrike">
                <a:solidFill>
                  <a:srgbClr val="0000ff"/>
                </a:solidFill>
                <a:latin typeface="Calibri"/>
              </a:rPr>
              <a:t> log</a:t>
            </a:r>
            <a:r>
              <a:rPr b="0" lang="en-CA" sz="3000" spc="-1" strike="noStrike" baseline="30000">
                <a:solidFill>
                  <a:srgbClr val="0000ff"/>
                </a:solidFill>
                <a:latin typeface="Calibri"/>
              </a:rPr>
              <a:t>2</a:t>
            </a:r>
            <a:r>
              <a:rPr b="0" lang="en-CA" sz="3000" spc="-1" strike="noStrike">
                <a:solidFill>
                  <a:srgbClr val="0000ff"/>
                </a:solidFill>
                <a:latin typeface="Calibri"/>
              </a:rPr>
              <a:t> n)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bits multiplicative (1+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) approx</a:t>
            </a:r>
            <a:br>
              <a:rPr sz="3000"/>
            </a:b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O(</a:t>
            </a:r>
            <a:r>
              <a:rPr b="0" lang="en-CA" sz="30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en-CA" sz="3000" spc="-1" strike="noStrike" baseline="30000">
                <a:solidFill>
                  <a:srgbClr val="0000ff"/>
                </a:solidFill>
                <a:latin typeface="Calibri"/>
              </a:rPr>
              <a:t>-2</a:t>
            </a:r>
            <a:r>
              <a:rPr b="0" lang="en-CA" sz="3000" spc="-1" strike="noStrike">
                <a:solidFill>
                  <a:srgbClr val="0000ff"/>
                </a:solidFill>
                <a:latin typeface="Calibri"/>
              </a:rPr>
              <a:t> log</a:t>
            </a:r>
            <a:r>
              <a:rPr b="0" lang="en-CA" sz="3000" spc="-1" strike="noStrike" baseline="30000">
                <a:solidFill>
                  <a:srgbClr val="0000ff"/>
                </a:solidFill>
                <a:latin typeface="Calibri"/>
              </a:rPr>
              <a:t>4</a:t>
            </a:r>
            <a:r>
              <a:rPr b="0" lang="en-CA" sz="3000" spc="-1" strike="noStrike">
                <a:solidFill>
                  <a:srgbClr val="0000ff"/>
                </a:solidFill>
                <a:latin typeface="Calibri"/>
              </a:rPr>
              <a:t> n)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bits additive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appr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Calibri"/>
              </a:rPr>
              <a:t>Our results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Additive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or multiplicative (1+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) approxi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Õ</a:t>
            </a: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0" lang="en-CA" sz="30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en-CA" sz="3000" spc="-1" strike="noStrike" baseline="30000">
                <a:solidFill>
                  <a:srgbClr val="0000ff"/>
                </a:solidFill>
                <a:latin typeface="Calibri"/>
              </a:rPr>
              <a:t>-2</a:t>
            </a:r>
            <a:r>
              <a:rPr b="0" lang="en-CA" sz="3000" spc="-1" strike="noStrike">
                <a:solidFill>
                  <a:srgbClr val="0000ff"/>
                </a:solidFill>
                <a:latin typeface="Calibri"/>
              </a:rPr>
              <a:t> log</a:t>
            </a:r>
            <a:r>
              <a:rPr b="0" lang="en-CA" sz="30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en-CA" sz="3000" spc="-1" strike="noStrike">
                <a:solidFill>
                  <a:srgbClr val="0000ff"/>
                </a:solidFill>
                <a:latin typeface="Calibri"/>
              </a:rPr>
              <a:t> n)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bits, even in streams with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</a:rPr>
              <a:t>dele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30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) lower bound for additive approx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ual contrib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85868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If you can estimate </a:t>
            </a:r>
            <a:r>
              <a:rPr b="0" lang="en-CA" sz="4000" spc="-1" strike="noStrike">
                <a:solidFill>
                  <a:srgbClr val="0000ff"/>
                </a:solidFill>
                <a:latin typeface="Calibri"/>
              </a:rPr>
              <a:t>‖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x</a:t>
            </a:r>
            <a:r>
              <a:rPr b="0" lang="en-CA" sz="4000" spc="-1" strike="noStrike">
                <a:solidFill>
                  <a:srgbClr val="0000ff"/>
                </a:solidFill>
                <a:latin typeface="Calibri"/>
              </a:rPr>
              <a:t>‖</a:t>
            </a:r>
            <a:r>
              <a:rPr b="0" lang="en-CA" sz="4000" spc="-1" strike="noStrike" baseline="-25000">
                <a:solidFill>
                  <a:srgbClr val="0000ff"/>
                </a:solidFill>
                <a:latin typeface="Calibri"/>
              </a:rPr>
              <a:t>p</a:t>
            </a:r>
            <a:r>
              <a:rPr b="0" lang="en-CA" sz="4000" spc="-1" strike="noStrike">
                <a:solidFill>
                  <a:srgbClr val="0000ff"/>
                </a:solidFill>
                <a:latin typeface="Calibri"/>
              </a:rPr>
              <a:t> for p</a:t>
            </a:r>
            <a:r>
              <a:rPr b="0" lang="ja-JP" sz="4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≈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1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then you can estimate H(x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457200" y="388620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tent Placeholder 2"/>
          <p:cNvSpPr/>
          <p:nvPr/>
        </p:nvSpPr>
        <p:spPr>
          <a:xfrm>
            <a:off x="457200" y="483084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CA" sz="4000" spc="-1" strike="noStrike">
                <a:solidFill>
                  <a:srgbClr val="ff0000"/>
                </a:solidFill>
                <a:latin typeface="Calibri"/>
              </a:rPr>
              <a:t>é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nyi entro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of R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y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8600" y="111240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finition: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vergence to Shann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048120" y="762120"/>
                <a:ext cx="31240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438280" y="5638680"/>
                <a:ext cx="46688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0" name="Straight Arrow Connector 7"/>
          <p:cNvCxnSpPr/>
          <p:nvPr/>
        </p:nvCxnSpPr>
        <p:spPr>
          <a:xfrm flipV="1">
            <a:off x="1827360" y="1904760"/>
            <a:ext cx="3600" cy="2134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TextBox 8"/>
          <p:cNvSpPr/>
          <p:nvPr/>
        </p:nvSpPr>
        <p:spPr>
          <a:xfrm>
            <a:off x="626040" y="2665440"/>
            <a:ext cx="1080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9"/>
          <p:cNvCxnSpPr/>
          <p:nvPr/>
        </p:nvCxnSpPr>
        <p:spPr>
          <a:xfrm>
            <a:off x="1828800" y="4036680"/>
            <a:ext cx="274392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TextBox 11"/>
          <p:cNvSpPr/>
          <p:nvPr/>
        </p:nvSpPr>
        <p:spPr>
          <a:xfrm>
            <a:off x="3004560" y="4259160"/>
            <a:ext cx="4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2531880" y="403704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1603080" y="403704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3431880" y="403704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4347000" y="403704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6"/>
          <p:cNvSpPr/>
          <p:nvPr/>
        </p:nvSpPr>
        <p:spPr>
          <a:xfrm>
            <a:off x="1851120" y="2316240"/>
            <a:ext cx="2720880" cy="1263600"/>
          </a:xfrm>
          <a:prstGeom prst="pi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7"/>
          <p:cNvSpPr/>
          <p:nvPr/>
        </p:nvSpPr>
        <p:spPr>
          <a:xfrm>
            <a:off x="2666880" y="2600280"/>
            <a:ext cx="152640" cy="152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8"/>
          <p:cNvSpPr/>
          <p:nvPr/>
        </p:nvSpPr>
        <p:spPr>
          <a:xfrm>
            <a:off x="3537000" y="3328920"/>
            <a:ext cx="241200" cy="241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RenyiShannon2.avi" descr=""/>
          <p:cNvPicPr/>
          <p:nvPr/>
        </p:nvPicPr>
        <p:blipFill>
          <a:blip r:embed="rId1"/>
          <a:stretch/>
        </p:blipFill>
        <p:spPr>
          <a:xfrm>
            <a:off x="6553080" y="914400"/>
            <a:ext cx="2210040" cy="3157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0"/>
          <p:cNvSpPr/>
          <p:nvPr/>
        </p:nvSpPr>
        <p:spPr>
          <a:xfrm>
            <a:off x="6858720" y="4114800"/>
            <a:ext cx="169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fred R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y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21-19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2667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6.0592E-006 C -0.00816 0.0007 -0.01632 0.0014 -0.02674 -0.00415 C -0.03716 -0.00971 -0.0507 -0.01502 -0.06268 -0.03399 C -0.07466 -0.05295 -0.08663 -0.08533 -0.09844 -0.11748 E">
                                      <p:cBhvr>
                                        <p:cTn id="252" dur="3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0"/>
          <p:cNvSpPr/>
          <p:nvPr/>
        </p:nvSpPr>
        <p:spPr>
          <a:xfrm>
            <a:off x="228600" y="2773440"/>
            <a:ext cx="8686800" cy="3932280"/>
          </a:xfrm>
          <a:prstGeom prst="rect">
            <a:avLst/>
          </a:prstGeom>
          <a:solidFill>
            <a:srgbClr val="9fe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228600" y="944640"/>
            <a:ext cx="8686800" cy="35049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Algorith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880" y="11430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p=1.01 and let x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514600" y="1909800"/>
                <a:ext cx="24685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1523880" y="2951280"/>
                <a:ext cx="269712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400640" y="2751120"/>
                <a:ext cx="375264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±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TextBox 8"/>
          <p:cNvSpPr/>
          <p:nvPr/>
        </p:nvSpPr>
        <p:spPr>
          <a:xfrm>
            <a:off x="3812400" y="1112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376880" y="1143000"/>
                <a:ext cx="10666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TextBox 9"/>
          <p:cNvSpPr/>
          <p:nvPr/>
        </p:nvSpPr>
        <p:spPr>
          <a:xfrm>
            <a:off x="4422240" y="1859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548892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1362240" y="5345280"/>
                <a:ext cx="28288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≈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686640" y="4327560"/>
                <a:ext cx="11840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681440" y="4267080"/>
                <a:ext cx="16480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Right Brace 14"/>
          <p:cNvSpPr/>
          <p:nvPr/>
        </p:nvSpPr>
        <p:spPr>
          <a:xfrm rot="5400000">
            <a:off x="5315040" y="3429000"/>
            <a:ext cx="304560" cy="1371600"/>
          </a:xfrm>
          <a:custGeom>
            <a:avLst/>
            <a:gdLst>
              <a:gd name="textAreaLeft" fmla="*/ 0 w 304560"/>
              <a:gd name="textAreaRight" fmla="*/ 109800 w 304560"/>
              <a:gd name="textAreaTop" fmla="*/ 41760 h 1371600"/>
              <a:gd name="textAreaBottom" fmla="*/ 13298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57"/>
                  <a:pt x="10800" y="2114"/>
                </a:cubicBezTo>
                <a:lnTo>
                  <a:pt x="10800" y="8686"/>
                </a:lnTo>
                <a:cubicBezTo>
                  <a:pt x="10800" y="9743"/>
                  <a:pt x="16200" y="10800"/>
                  <a:pt x="21600" y="10800"/>
                </a:cubicBezTo>
                <a:cubicBezTo>
                  <a:pt x="16200" y="10800"/>
                  <a:pt x="10800" y="11857"/>
                  <a:pt x="10800" y="12914"/>
                </a:cubicBezTo>
                <a:lnTo>
                  <a:pt x="10800" y="19486"/>
                </a:lnTo>
                <a:cubicBezTo>
                  <a:pt x="10800" y="20543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ight Brace 15"/>
          <p:cNvSpPr/>
          <p:nvPr/>
        </p:nvSpPr>
        <p:spPr>
          <a:xfrm rot="5400000">
            <a:off x="7182000" y="33908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41760 h 1447920"/>
              <a:gd name="textAreaBottom" fmla="*/ 14061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02"/>
                  <a:pt x="10800" y="2003"/>
                </a:cubicBezTo>
                <a:lnTo>
                  <a:pt x="10800" y="8797"/>
                </a:lnTo>
                <a:cubicBezTo>
                  <a:pt x="10800" y="9799"/>
                  <a:pt x="16200" y="10800"/>
                  <a:pt x="21600" y="10800"/>
                </a:cubicBezTo>
                <a:cubicBezTo>
                  <a:pt x="16200" y="10800"/>
                  <a:pt x="10800" y="11802"/>
                  <a:pt x="10800" y="12803"/>
                </a:cubicBezTo>
                <a:lnTo>
                  <a:pt x="10800" y="19597"/>
                </a:lnTo>
                <a:cubicBezTo>
                  <a:pt x="10800" y="2059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6"/>
          <p:cNvSpPr/>
          <p:nvPr/>
        </p:nvSpPr>
        <p:spPr>
          <a:xfrm>
            <a:off x="1615320" y="300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7"/>
          <p:cNvSpPr/>
          <p:nvPr/>
        </p:nvSpPr>
        <p:spPr>
          <a:xfrm>
            <a:off x="147240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9"/>
          <p:cNvSpPr/>
          <p:nvPr/>
        </p:nvSpPr>
        <p:spPr>
          <a:xfrm>
            <a:off x="5417640" y="2076480"/>
            <a:ext cx="3394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alibri"/>
              </a:rPr>
              <a:t>(using Indyk’s streaming al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5"/>
          <p:cNvGrpSpPr/>
          <p:nvPr/>
        </p:nvGrpSpPr>
        <p:grpSpPr>
          <a:xfrm>
            <a:off x="4892760" y="4843440"/>
            <a:ext cx="3260520" cy="1848240"/>
            <a:chOff x="4892760" y="4843440"/>
            <a:chExt cx="3260520" cy="1848240"/>
          </a:xfrm>
        </p:grpSpPr>
        <p:sp>
          <p:nvSpPr>
            <p:cNvPr id="173" name="TextBox 21"/>
            <p:cNvSpPr/>
            <p:nvPr/>
          </p:nvSpPr>
          <p:spPr>
            <a:xfrm>
              <a:off x="5345640" y="5135400"/>
              <a:ext cx="2807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As p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this gets better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this gets worse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4892760" y="5199120"/>
              <a:ext cx="572760" cy="64620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4"/>
            <p:cNvSpPr/>
            <p:nvPr/>
          </p:nvSpPr>
          <p:spPr>
            <a:xfrm>
              <a:off x="7504200" y="4843440"/>
              <a:ext cx="649080" cy="140508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itle 1"/>
          <p:cNvSpPr/>
          <p:nvPr/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8"/>
              <p:cNvSpPr txBox="1"/>
              <p:nvPr/>
            </p:nvSpPr>
            <p:spPr>
              <a:xfrm>
                <a:off x="4878360" y="4805280"/>
                <a:ext cx="12524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Nick</dc:creator>
  <dc:description/>
  <dc:language>en-US</dc:language>
  <cp:lastModifiedBy>-</cp:lastModifiedBy>
  <dcterms:modified xsi:type="dcterms:W3CDTF">2008-05-29T14:10:43Z</dcterms:modified>
  <cp:revision>93</cp:revision>
  <dc:subject/>
  <dc:title>Streaming Algorithms for Estimating Entropy</dc:title>
</cp:coreProperties>
</file>